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934-2AEF-4A5B-9823-F5697509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E1A-9994-42F8-897E-F5DAB67B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E82-897D-40A6-A9EC-04B7E01B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5D4-32AD-452F-AD0D-92154003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646-9DE2-42FD-A4E0-CB5FEA06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80F-1FB7-4261-BBF4-C7240888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D1-3767-4FB5-90E5-A7EB0399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C76-14C7-445E-9556-71282D3B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9EF-A2FF-4B99-A71E-56F2AF7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11B-0612-4D8A-877D-E2AABA0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4CD-4CC2-40A5-8259-0F5464A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0C7-53CD-416E-9DE6-A2451FE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B893-D003-4406-BF01-C25B0837F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6600" y="1355400"/>
            <a:ext cx="805320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ДОУ Игринский детский сад общеразвивающего вида №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нимательный материал в развитии детей дошкольного возраста с ОВЗ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s://i02.fotocdn.net/s23/34/public_pin_l/87/2570606113.jpg"/>
          <p:cNvPicPr/>
          <p:nvPr/>
        </p:nvPicPr>
        <p:blipFill>
          <a:blip r:embed="rId1"/>
          <a:stretch/>
        </p:blipFill>
        <p:spPr>
          <a:xfrm>
            <a:off x="182520" y="1658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www.maam.ru/upload/blogs/e07dc38566c692b8fb7b3a60ff62e8e3.jpg.jpg"/>
          <p:cNvPicPr/>
          <p:nvPr/>
        </p:nvPicPr>
        <p:blipFill>
          <a:blip r:embed="rId2"/>
          <a:stretch/>
        </p:blipFill>
        <p:spPr>
          <a:xfrm>
            <a:off x="1911240" y="3986280"/>
            <a:ext cx="2575080" cy="1931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steshka.ru/wp-content/uploads/2015/06/torn_Paper_craft_pattern_1.jpg"/>
          <p:cNvPicPr/>
          <p:nvPr/>
        </p:nvPicPr>
        <p:blipFill>
          <a:blip r:embed="rId3"/>
          <a:stretch/>
        </p:blipFill>
        <p:spPr>
          <a:xfrm>
            <a:off x="4869000" y="4016520"/>
            <a:ext cx="2952720" cy="196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www.maam.ru/upload/blogs/8b5adba5135a317e1484ccdf5027de79.jpg.jpg"/>
          <p:cNvPicPr/>
          <p:nvPr/>
        </p:nvPicPr>
        <p:blipFill>
          <a:blip r:embed="rId4"/>
          <a:stretch/>
        </p:blipFill>
        <p:spPr>
          <a:xfrm>
            <a:off x="6296040" y="1622520"/>
            <a:ext cx="2606760" cy="1954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189080" y="704880"/>
            <a:ext cx="71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-дея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G:\DCIM\108___02\IMG_2570.JPG"/>
          <p:cNvPicPr/>
          <p:nvPr/>
        </p:nvPicPr>
        <p:blipFill>
          <a:blip r:embed="rId2"/>
          <a:srcRect l="18906" t="15859" r="21647" b="11382"/>
          <a:stretch/>
        </p:blipFill>
        <p:spPr>
          <a:xfrm>
            <a:off x="601560" y="1687680"/>
            <a:ext cx="3311640" cy="304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G:\DCIM\108___02\IMG_2585.JPG"/>
          <p:cNvPicPr/>
          <p:nvPr/>
        </p:nvPicPr>
        <p:blipFill>
          <a:blip r:embed="rId3"/>
          <a:stretch/>
        </p:blipFill>
        <p:spPr>
          <a:xfrm>
            <a:off x="5016600" y="3017880"/>
            <a:ext cx="3709800" cy="2781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4611600" y="1371600"/>
            <a:ext cx="39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лки уедин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39840" y="134604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пехов в работе и терпения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аств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ести запи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лучать удоволь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спользовать в раб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елиться опы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4720" y="365040"/>
            <a:ext cx="6840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мастерской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user\Desktop\IMG_1734.JPG"/>
          <p:cNvPicPr/>
          <p:nvPr/>
        </p:nvPicPr>
        <p:blipFill>
          <a:blip r:embed="rId2"/>
          <a:stretch/>
        </p:blipFill>
        <p:spPr>
          <a:xfrm>
            <a:off x="1633680" y="808200"/>
            <a:ext cx="68706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 flipV="1" rot="10800000">
            <a:off x="1071720" y="1720440"/>
            <a:ext cx="751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проблема: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пешная адаптация ребенка-инвалида в условиях Д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проблема: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среды для пребывания и обучения с ребенком так, чтобы добиться положительной динамики в развит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проблема: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остаточной информированности родителей в вопросах психолого-педагогической помощи особенному реб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573280" y="509760"/>
            <a:ext cx="51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шие пробл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043080" y="457200"/>
            <a:ext cx="35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058760" y="1581120"/>
            <a:ext cx="697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оздание благоприятного психологического климата  для детей с ОВЗ в условиях Д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Разработка и реализация образовательной программы для каждого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Успешная социализация ребенка с ОВЗ в ДОУ и применение технологий для е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2620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ыхательная гимнастик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D:\МЕРОПРИЯТИЯ\ЗДОРОВЬЕСБЕРЕЖЕНИЕ 2016\видеоролик ЗДОРОВЬЕСБЕРЕЖЕНИЕ\СЛАЙДЫ ДЛЯ РОЛИКА\21.JPG"/>
          <p:cNvPicPr/>
          <p:nvPr/>
        </p:nvPicPr>
        <p:blipFill>
          <a:blip r:embed="rId1"/>
          <a:stretch/>
        </p:blipFill>
        <p:spPr>
          <a:xfrm>
            <a:off x="324000" y="1125360"/>
            <a:ext cx="4248000" cy="34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Users7\User\Desktop\Детский сад 2016-2017 год\на пед.чтения\img10.gif"/>
          <p:cNvPicPr/>
          <p:nvPr/>
        </p:nvPicPr>
        <p:blipFill>
          <a:blip r:embed="rId2"/>
          <a:stretch/>
        </p:blipFill>
        <p:spPr>
          <a:xfrm>
            <a:off x="4352760" y="3206880"/>
            <a:ext cx="46879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G:\DCIM\108___02\IMG_2571.JPG"/>
          <p:cNvPicPr/>
          <p:nvPr/>
        </p:nvPicPr>
        <p:blipFill>
          <a:blip r:embed="rId1"/>
          <a:stretch/>
        </p:blipFill>
        <p:spPr>
          <a:xfrm>
            <a:off x="5011560" y="679320"/>
            <a:ext cx="3727800" cy="2795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DCIM\108___02\IMG_2572.JPG"/>
          <p:cNvPicPr/>
          <p:nvPr/>
        </p:nvPicPr>
        <p:blipFill>
          <a:blip r:embed="rId3"/>
          <a:stretch/>
        </p:blipFill>
        <p:spPr>
          <a:xfrm>
            <a:off x="631800" y="2743200"/>
            <a:ext cx="3848040" cy="2887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27040" y="14320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с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124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G:\DCIM\108___02\IMG_2575.JPG"/>
          <p:cNvPicPr/>
          <p:nvPr/>
        </p:nvPicPr>
        <p:blipFill>
          <a:blip r:embed="rId2"/>
          <a:stretch/>
        </p:blipFill>
        <p:spPr>
          <a:xfrm>
            <a:off x="299880" y="1619280"/>
            <a:ext cx="223380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G:\DCIM\108___02\IMG_2577.JPG"/>
          <p:cNvPicPr/>
          <p:nvPr/>
        </p:nvPicPr>
        <p:blipFill>
          <a:blip r:embed="rId3"/>
          <a:stretch/>
        </p:blipFill>
        <p:spPr>
          <a:xfrm>
            <a:off x="1346040" y="3579840"/>
            <a:ext cx="2211480" cy="165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G:\DCIM\108___02\IMG_2566.JPG"/>
          <p:cNvPicPr/>
          <p:nvPr/>
        </p:nvPicPr>
        <p:blipFill>
          <a:blip r:embed="rId4"/>
          <a:stretch/>
        </p:blipFill>
        <p:spPr>
          <a:xfrm>
            <a:off x="4664160" y="3618000"/>
            <a:ext cx="2338200" cy="175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user\Desktop\IMG_20180212_152625.jpg"/>
          <p:cNvPicPr/>
          <p:nvPr/>
        </p:nvPicPr>
        <p:blipFill>
          <a:blip r:embed="rId5"/>
          <a:srcRect l="0" t="16965" r="10415" b="0"/>
          <a:stretch/>
        </p:blipFill>
        <p:spPr>
          <a:xfrm>
            <a:off x="6499080" y="1562040"/>
            <a:ext cx="2409840" cy="1674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443320" y="770040"/>
            <a:ext cx="49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евой уго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G:\DCIM\108___02\IMG_2580.JPG"/>
          <p:cNvPicPr/>
          <p:nvPr/>
        </p:nvPicPr>
        <p:blipFill>
          <a:blip r:embed="rId1"/>
          <a:stretch/>
        </p:blipFill>
        <p:spPr>
          <a:xfrm>
            <a:off x="262080" y="954000"/>
            <a:ext cx="3813120" cy="286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G:\DCIM\108___02\IMG_2582.JPG"/>
          <p:cNvPicPr/>
          <p:nvPr/>
        </p:nvPicPr>
        <p:blipFill>
          <a:blip r:embed="rId2"/>
          <a:stretch/>
        </p:blipFill>
        <p:spPr>
          <a:xfrm>
            <a:off x="4994280" y="3540240"/>
            <a:ext cx="3849840" cy="2886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467240" y="1515960"/>
            <a:ext cx="44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ва-гимнас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2:46:22Z</dcterms:created>
  <dc:creator>Инна</dc:creator>
  <dc:description/>
  <dc:language>en-US</dc:language>
  <cp:lastModifiedBy>Lenovo</cp:lastModifiedBy>
  <dcterms:modified xsi:type="dcterms:W3CDTF">2018-05-04T09:30:59Z</dcterms:modified>
  <cp:revision>26</cp:revision>
  <dc:subject/>
  <dc:title>Презентация PowerPoint</dc:title>
</cp:coreProperties>
</file>